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6C6ED0-AA94-45EE-AC31-6C56AA916E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40E3CE-23CC-447F-8FBF-DF09A6167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6829F4-5205-442B-9C70-4858BE855E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25DA7C-018B-4FF5-967C-7F040D28F9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13C44-6264-445C-A8B3-25CB6E8E3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BBC17-9351-4D62-9DA6-44677F699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0E0F8-81C9-48A3-9732-15B75B1EE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DE0DA-9C23-40A1-91E5-467837EB8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89EFF-CBB6-4A13-833E-50A1781DC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9D27B-F9F1-4A0F-B6E5-AF795A588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B780F-206E-4DDF-B3CB-BB77A3801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FC71FC-5FD2-4D7D-B430-336A99335F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57007-C97D-422B-B0A6-FAC1C7F71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4BEA7-07E8-4C5B-8D54-DF5D05937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66453-BBFA-4DAA-BF40-0EEC8E7FD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4A7778-0E63-4EF6-B8B9-1C6F82F17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BB370-56C5-4009-B6AD-87B9E6A98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28C7AC-9928-4DB0-B05C-8CD45CC28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E928A5-C654-4D36-9C00-2CFA3BC90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FE6534-389F-4ABF-B60D-A4BE23F8A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F1C862-AE7F-466B-9F57-84B5288B4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B88BDA-75C0-4871-B27C-0B24902E97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08269F-79C3-4C49-9A72-06711D0C0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8690BF-E2C0-49D7-8F7E-F0F4481AFB3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5CEE-E1D6-44E4-9B47-17A5F672AC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779f92"/>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21A2-7A29-420D-9222-D660FB43C4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779f9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dc2d7"/>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779f92"/>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Best Time of Day for Literacy Instruction</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ading instruction in a fifth-grade class is moved to the afternoon, students at a private urban school in Brooklyn, New York, will show gains in reading comprehension and decoding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chetta, J., &amp; Dunn, R.  (2010).  Helping parents understand how children learn.  </a:t>
            </a:r>
            <a:r>
              <a:rPr b="0" i="1" lang="en-US" sz="1600" spc="-1" strike="noStrike">
                <a:solidFill>
                  <a:srgbClr val="000000"/>
                </a:solidFill>
                <a:latin typeface="Arial"/>
              </a:rPr>
              <a:t>Momentum, 41</a:t>
            </a:r>
            <a:r>
              <a:rPr b="0" lang="en-US" sz="1600" spc="-1" strike="noStrike">
                <a:solidFill>
                  <a:srgbClr val="000000"/>
                </a:solidFill>
                <a:latin typeface="Arial"/>
              </a:rPr>
              <a:t>, 40-43.</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io, A., Beasley, T. M., Dunn, R., Quinn, P., &amp; Buchanan, K.  (1997).  Incremental implementation of learning style strategies among urban low achievers.  </a:t>
            </a:r>
            <a:r>
              <a:rPr b="0" i="1" lang="en-US" sz="1600" spc="-1" strike="noStrike">
                <a:solidFill>
                  <a:srgbClr val="000000"/>
                </a:solidFill>
                <a:latin typeface="Arial"/>
              </a:rPr>
              <a:t>The Journal of Educational Research, 91</a:t>
            </a:r>
            <a:r>
              <a:rPr b="0" lang="en-US" sz="1600" spc="-1" strike="noStrike">
                <a:solidFill>
                  <a:srgbClr val="000000"/>
                </a:solidFill>
                <a:latin typeface="Arial"/>
              </a:rPr>
              <a:t>, 15-25.</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bo, M.  (2009).  Match the style of instruction to the style of reading.  </a:t>
            </a:r>
            <a:r>
              <a:rPr b="0" i="1" lang="en-US" sz="1600" spc="-1" strike="noStrike">
                <a:solidFill>
                  <a:srgbClr val="000000"/>
                </a:solidFill>
                <a:latin typeface="Arial"/>
              </a:rPr>
              <a:t>Phi Delta Kappan, 90</a:t>
            </a:r>
            <a:r>
              <a:rPr b="0" lang="en-US" sz="1600" spc="-1" strike="noStrike">
                <a:solidFill>
                  <a:srgbClr val="000000"/>
                </a:solidFill>
                <a:latin typeface="Arial"/>
              </a:rPr>
              <a:t>, 373-378.</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s, Z.  (2001).  Effects of time-of-day of instruction on beginning reading achievement</a:t>
            </a:r>
            <a:r>
              <a:rPr b="0" i="1" lang="en-US" sz="1600" spc="-1" strike="noStrike">
                <a:solidFill>
                  <a:srgbClr val="000000"/>
                </a:solidFill>
                <a:latin typeface="Arial"/>
              </a:rPr>
              <a:t>.  Journal of Educational Research, 80,</a:t>
            </a:r>
            <a:r>
              <a:rPr b="0" lang="en-US" sz="1600" spc="-1" strike="noStrike">
                <a:solidFill>
                  <a:srgbClr val="000000"/>
                </a:solidFill>
                <a:latin typeface="Arial"/>
              </a:rPr>
              <a:t> 138-140.</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bo, M. H., &amp; Howard, K.  (2007).  Advice about the use of learning styles: a major myth in education.  </a:t>
            </a:r>
            <a:r>
              <a:rPr b="0" i="1" lang="en-US" sz="1600" spc="-1" strike="noStrike">
                <a:solidFill>
                  <a:srgbClr val="000000"/>
                </a:solidFill>
                <a:latin typeface="Arial"/>
              </a:rPr>
              <a:t>Journal of College Reading and Learning, 37,</a:t>
            </a:r>
            <a:r>
              <a:rPr b="0" lang="en-US" sz="1600" spc="-1" strike="noStrike">
                <a:solidFill>
                  <a:srgbClr val="000000"/>
                </a:solidFill>
                <a:latin typeface="Arial"/>
              </a:rPr>
              <a:t> 101-109. </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nn, R.  (1984).  Learning style: state of the science.  </a:t>
            </a:r>
            <a:r>
              <a:rPr b="0" i="1" lang="en-US" sz="1600" spc="-1" strike="noStrike">
                <a:solidFill>
                  <a:srgbClr val="000000"/>
                </a:solidFill>
                <a:latin typeface="Arial"/>
              </a:rPr>
              <a:t>Theory into Practice, 23, 10-19.</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nn, R.  (1998).  Timing is everything.  </a:t>
            </a:r>
            <a:r>
              <a:rPr b="0" i="1" lang="en-US" sz="1600" spc="-1" strike="noStrike">
                <a:solidFill>
                  <a:srgbClr val="000000"/>
                </a:solidFill>
                <a:latin typeface="Arial"/>
              </a:rPr>
              <a:t>Momentum, 29,</a:t>
            </a:r>
            <a:r>
              <a:rPr b="0" lang="en-US" sz="1600" spc="-1" strike="noStrike">
                <a:solidFill>
                  <a:srgbClr val="000000"/>
                </a:solidFill>
                <a:latin typeface="Arial"/>
              </a:rPr>
              <a:t> 23-25.</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dgin, J.,  Wooliscroft, C.  (1997).  Eric learns to read: learning</a:t>
            </a:r>
            <a:r>
              <a:rPr b="0" i="1" lang="en-US" sz="1600" spc="-1" strike="noStrike">
                <a:solidFill>
                  <a:srgbClr val="000000"/>
                </a:solidFill>
                <a:latin typeface="Arial"/>
              </a:rPr>
              <a:t> </a:t>
            </a:r>
            <a:r>
              <a:rPr b="0" lang="en-US" sz="1600" spc="-1" strike="noStrike">
                <a:solidFill>
                  <a:srgbClr val="000000"/>
                </a:solidFill>
                <a:latin typeface="Arial"/>
              </a:rPr>
              <a:t>styles at work.  </a:t>
            </a:r>
            <a:r>
              <a:rPr b="0" i="1" lang="en-US" sz="1600" spc="-1" strike="noStrike">
                <a:solidFill>
                  <a:srgbClr val="000000"/>
                </a:solidFill>
                <a:latin typeface="Arial"/>
              </a:rPr>
              <a:t>Educational Leadership, 54,</a:t>
            </a:r>
            <a:r>
              <a:rPr b="0" lang="en-US" sz="1600" spc="-1" strike="noStrike">
                <a:solidFill>
                  <a:srgbClr val="000000"/>
                </a:solidFill>
                <a:latin typeface="Arial"/>
              </a:rPr>
              <a:t> 43-45.</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yskens, P., &amp; Ysseldyke, J.  (1998).  Student Academic responding time as a function of classroom ecology and time of day.  </a:t>
            </a:r>
            <a:r>
              <a:rPr b="0" i="1" lang="en-US" sz="1600" spc="-1" strike="noStrike">
                <a:solidFill>
                  <a:srgbClr val="000000"/>
                </a:solidFill>
                <a:latin typeface="Arial"/>
              </a:rPr>
              <a:t>The Journal of Special Education, 34,</a:t>
            </a:r>
            <a:r>
              <a:rPr b="0" lang="en-US" sz="1600" spc="-1" strike="noStrike">
                <a:solidFill>
                  <a:srgbClr val="000000"/>
                </a:solidFill>
                <a:latin typeface="Arial"/>
              </a:rPr>
              <a:t> 411-424.</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hl, S.  (1999).  Different strokes for different folks? A critique of learning styles.  </a:t>
            </a:r>
            <a:r>
              <a:rPr b="0" i="1" lang="en-US" sz="1600" spc="-1" strike="noStrike">
                <a:solidFill>
                  <a:srgbClr val="000000"/>
                </a:solidFill>
                <a:latin typeface="Arial"/>
              </a:rPr>
              <a:t>American Educator</a:t>
            </a:r>
            <a:r>
              <a:rPr b="0" lang="en-US" sz="1600" spc="-1" strike="noStrike">
                <a:solidFill>
                  <a:srgbClr val="000000"/>
                </a:solidFill>
                <a:latin typeface="Arial"/>
              </a:rPr>
              <a:t>, 27-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CONTENTS</a:t>
            </a: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3</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the Problem: 4</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the Literature: 5-9</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10</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 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education has shifted its directions to include literacy as a major focus as students continue to perform poorly on tests that gauge their abilities to read with comprehension.</a:t>
            </a:r>
            <a:endParaRPr b="0" lang="en-US" sz="32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in New York City now devote the first 90 minutes of the day to reading in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MENT OF THE PROBLEM</a:t>
            </a: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 private urban school in Brooklyn, reading and writing is taught earlier in the morning at 9’o clock, but students there continue to struggle with word decoding and content comprehension.</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time of literacy instruction were moved to later in the day, specifically afternoon, would reading comprehension and decoding skills impro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REVIEW OF THE LITERATURE</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Styles: Time-of-Day Preference </a:t>
            </a:r>
            <a:endParaRPr b="0" lang="en-US" sz="4000" spc="-1" strike="noStrike">
              <a:solidFill>
                <a:srgbClr val="000000"/>
              </a:solidFill>
              <a:latin typeface="Arial"/>
            </a:endParaRPr>
          </a:p>
        </p:txBody>
      </p:sp>
      <p:sp>
        <p:nvSpPr>
          <p:cNvPr id="116" name="PlaceHolder 2"/>
          <p:cNvSpPr>
            <a:spLocks noGrp="1"/>
          </p:cNvSpPr>
          <p:nvPr>
            <p:ph/>
          </p:nvPr>
        </p:nvSpPr>
        <p:spPr>
          <a:xfrm>
            <a:off x="456840" y="1752120"/>
            <a:ext cx="8458200" cy="57913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s</a:t>
            </a:r>
            <a:endParaRPr b="0" lang="en-US" sz="2400" spc="-1" strike="noStrike">
              <a:solidFill>
                <a:srgbClr val="000000"/>
              </a:solidFill>
              <a:latin typeface="Arial"/>
            </a:endParaRPr>
          </a:p>
          <a:p>
            <a:pPr marL="343080" indent="-343080">
              <a:lnSpc>
                <a:spcPct val="9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s one parent an early-bird and the other a night owl? Chances are the child may share a time-of-day preference with a parent and have a best time for learning.” – (Borchetta &amp; Dunn, 2010) </a:t>
            </a:r>
            <a:endParaRPr b="0" lang="en-US" sz="1600" spc="-1" strike="noStrike">
              <a:solidFill>
                <a:srgbClr val="000000"/>
              </a:solidFill>
              <a:latin typeface="Arial"/>
            </a:endParaRPr>
          </a:p>
          <a:p>
            <a:pPr marL="343080" indent="-343080">
              <a:lnSpc>
                <a:spcPct val="9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tudents were grouped for reading according to their … highest energy levels--early morning, late morning, or afternoon. Students' standardized achievement reading and mathematics test scores between 1986 and 1989 increased from the 30th to the 83rd percentile under State Education Department observation.” – (Braio, Beasley, Dunn, Quinn &amp; Buchanan, 1997) </a:t>
            </a:r>
            <a:endParaRPr b="0" lang="en-US" sz="1600" spc="-1" strike="noStrike">
              <a:solidFill>
                <a:srgbClr val="000000"/>
              </a:solidFill>
              <a:latin typeface="Arial"/>
            </a:endParaRPr>
          </a:p>
          <a:p>
            <a:pPr marL="343080" indent="-343080">
              <a:lnSpc>
                <a:spcPct val="9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ading instruction should use students‘ reading style strengths and preferences.” – (Carbo, 2009)</a:t>
            </a:r>
            <a:endParaRPr b="0" lang="en-US" sz="1600" spc="-1" strike="noStrike">
              <a:solidFill>
                <a:srgbClr val="000000"/>
              </a:solidFill>
              <a:latin typeface="Arial"/>
            </a:endParaRPr>
          </a:p>
          <a:p>
            <a:pPr marL="343080" indent="-343080">
              <a:lnSpc>
                <a:spcPct val="9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tudies at many grade levels revealed that students who studied for, or took tests at their "best" time of day, earned statistically higher standardized achievement and attitude test scores than when they studied for, or took tests at other times.(FN3) Researchers citing these results have urged administrators to consider school schedules based on students' and teachers' learning-style time preferences.” – (Dunn, 1998)</a:t>
            </a:r>
            <a:endParaRPr b="0" lang="en-US" sz="1600" spc="-1" strike="noStrike">
              <a:solidFill>
                <a:srgbClr val="000000"/>
              </a:solidFill>
              <a:latin typeface="Arial"/>
            </a:endParaRPr>
          </a:p>
          <a:p>
            <a:pPr marL="343080" indent="-343080">
              <a:lnSpc>
                <a:spcPct val="9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e have chosen to base our classroom instruction on the 21 elements of the Dunn and Dunn Learning Styles Model…We saw dramatic improvements during the next two years as we implemented the reading styles strategies and inclusion practices.” – (Hodgin &amp; Wooliscroft, 199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Styles: Time-of-Day Preference</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a:t>
            </a:r>
            <a:endParaRPr b="0" lang="en-US" sz="2000" spc="-1" strike="noStrike">
              <a:solidFill>
                <a:srgbClr val="000000"/>
              </a:solidFill>
              <a:latin typeface="Arial"/>
            </a:endParaRPr>
          </a:p>
          <a:p>
            <a:pPr marL="343080" indent="-343080">
              <a:lnSpc>
                <a:spcPct val="80000"/>
              </a:lnSpc>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learning style instruments have not been shown to be valid and reliable, there is no benefit to matching instruction to preferred learning style, and there is no evidence that understanding one's learning style improves learning and its related outcomes. This conclusion is based on the lack of well-designed investigations by researchers who are not committed to any particular framework, and replicated in numerous educational settings.” – (Dembo &amp; Howard, 2007</a:t>
            </a:r>
            <a:endParaRPr b="0" lang="en-US" sz="2000" spc="-1" strike="noStrike">
              <a:solidFill>
                <a:srgbClr val="000000"/>
              </a:solidFill>
              <a:latin typeface="Arial"/>
            </a:endParaRPr>
          </a:p>
          <a:p>
            <a:pPr marL="343080" indent="-343080">
              <a:lnSpc>
                <a:spcPct val="80000"/>
              </a:lnSpc>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ason researchers roll their eyes at learning styles is the utter failure to find that assessing children’s learning styles and matching to instructional methods has any effect on their learning.” – (Stahl, 1999)</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ning </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s</a:t>
            </a:r>
            <a:endParaRPr b="0" lang="en-US" sz="1800" spc="-1" strike="noStrike">
              <a:solidFill>
                <a:srgbClr val="000000"/>
              </a:solidFill>
              <a:latin typeface="Arial"/>
            </a:endParaRPr>
          </a:p>
          <a:p>
            <a:pPr marL="343080" indent="-343080">
              <a:lnSpc>
                <a:spcPct val="8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ndividual instructional structures were more frequently observed in the morning (14.2% AM; 10.4% PM), and entire group instructional structures were more frequent in the afternoon (68.0% AM; 78.4% PM). Considering these structures, it is not surprising that academic responding time was higher in the morning (78.1% AM; 71.5% PM), and inappropriate behaviors were more frequently observed in the afternoon (16.9% AM; 19.3% PM).” – (Muyskens &amp; Ysseldyke, 1998)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a:t>
            </a:r>
            <a:endParaRPr b="0" lang="en-US" sz="1800" spc="-1" strike="noStrike">
              <a:solidFill>
                <a:srgbClr val="000000"/>
              </a:solidFill>
              <a:latin typeface="Arial"/>
            </a:endParaRPr>
          </a:p>
          <a:p>
            <a:pPr marL="343080" indent="-343080">
              <a:lnSpc>
                <a:spcPct val="8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often operate under the mistaken assumption that reading should be taught in the morning when, supposedly, most children are alert; the Lynch (1981) and Virostko (1983) investigations demonstrate the fallaciousness of that belief. Normal school hours restrict the achievement of approximately 25- 30 percent of secondary youngsters; no matter when instruction is being offered, it is the wrong time of day for almost one of every three students.” – (Dunn, 198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noon</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results of this study support the research hypothesis that beginning readers who receive instruction in the afternoon benefit more in terms of reading achievement gains than beginning readers who receive instruction in the morning.” – (Davis, 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22:35:48Z</dcterms:created>
  <dc:creator>Lourdes</dc:creator>
  <dc:description/>
  <dc:language>en-US</dc:language>
  <cp:lastModifiedBy>Lourdes</cp:lastModifiedBy>
  <dcterms:modified xsi:type="dcterms:W3CDTF">2010-10-20T15:11:21Z</dcterms:modified>
  <cp:revision>5</cp:revision>
  <dc:subject/>
  <dc:title>The Effects of Time-of-Day Upon Literacy Instruction </dc:title>
</cp:coreProperties>
</file>